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5EC580D0-4105-4A91-A006-428BF3CDB464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077320" y="3646440"/>
            <a:ext cx="0" cy="163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35400" y="1954080"/>
            <a:ext cx="0" cy="16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58920" y="3009960"/>
            <a:ext cx="3316320" cy="30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62160" y="2185920"/>
            <a:ext cx="3306600" cy="8240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1103400"/>
            <a:ext cx="3313080" cy="86364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54320" y="3782880"/>
            <a:ext cx="100044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84120" y="3782880"/>
            <a:ext cx="144324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87480" y="3782880"/>
            <a:ext cx="121140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3782880"/>
            <a:ext cx="107496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00960" y="3782880"/>
            <a:ext cx="156996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8400" y="3782880"/>
            <a:ext cx="100044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" y="281160"/>
            <a:ext cx="7010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Global Marketing Organization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1093680" y="5675400"/>
            <a:ext cx="259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98360" y="5099040"/>
            <a:ext cx="259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18360" y="1228680"/>
            <a:ext cx="4021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hief Marketing Officer (C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Richard Le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18440" y="2151000"/>
            <a:ext cx="38656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 Operations (MO)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nagement &amp; CMO Deputy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9080" y="3792600"/>
            <a:ext cx="125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ra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tefan Lo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3800" y="3790800"/>
            <a:ext cx="193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ccount Marke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m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channewitz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5360" y="3772080"/>
            <a:ext cx="133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evina Ken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5400" y="3772080"/>
            <a:ext cx="112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Brand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Nina Bra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91400" y="3772080"/>
            <a:ext cx="12474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Intellig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thia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Gil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37320" y="3784680"/>
            <a:ext cx="165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WE, EE, LAM,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2760" y="295272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MO/MO Ass. F. Biberg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448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97360" y="361800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5624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8624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4488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6320" y="5235480"/>
            <a:ext cx="474840" cy="3272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800" y="5775480"/>
            <a:ext cx="474480" cy="326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68760" y="154296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75240" y="263988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07000" y="1527120"/>
            <a:ext cx="0" cy="105732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07000" y="2201760"/>
            <a:ext cx="29556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02560" y="1793880"/>
            <a:ext cx="135072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28400" y="1851120"/>
            <a:ext cx="153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usi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lke Cor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69080" y="360684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80120" y="3782880"/>
            <a:ext cx="124308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44760" y="3772080"/>
            <a:ext cx="14760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Mk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uppo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Andre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u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960" y="360684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56480" y="35942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Björn Helbing</cp:lastModifiedBy>
  <dcterms:modified xsi:type="dcterms:W3CDTF">2006-03-20T18:05:04Z</dcterms:modified>
  <cp:revision>529</cp:revision>
  <dc:subject/>
  <dc:title>All-hands mee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46534411</vt:r8>
  </property>
  <property fmtid="{D5CDD505-2E9C-101B-9397-08002B2CF9AE}" pid="3" name="_AuthorEmail">
    <vt:lpwstr>Sandra.Rubart@BenQ.com</vt:lpwstr>
  </property>
  <property fmtid="{D5CDD505-2E9C-101B-9397-08002B2CF9AE}" pid="4" name="_AuthorEmailDisplayName">
    <vt:lpwstr>Sandra Rubart</vt:lpwstr>
  </property>
  <property fmtid="{D5CDD505-2E9C-101B-9397-08002B2CF9AE}" pid="5" name="_EmailSubject">
    <vt:lpwstr>Marketing Announcement</vt:lpwstr>
  </property>
  <property fmtid="{D5CDD505-2E9C-101B-9397-08002B2CF9AE}" pid="6" name="_ReviewingToolsShownOnce">
    <vt:lpwstr/>
  </property>
</Properties>
</file>